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lick to move the slide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57441-8788-4F5C-800E-94191468F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ellular component ontology also has a 3D interpretation…this can be made explicit by augmenting the cellular location ontology with clearly expressed relations of parthood, adjacency etc. These terms can also be ‘linked’ to a set of co-ordinates in an im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C9A2-46E4-49BD-A6E7-3431D910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7ADF-33FC-4C18-BBE5-1011EEBC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9FB6-F807-418D-89E1-E1B2ECC7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E6C4-6E6F-44C3-8495-F899B1678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BA14-62CF-4CDF-A17C-7E5AD1F7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3DBB-33DB-48E1-AA4F-066D4F88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B70C-23A3-4652-838A-AB9C3CDB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47AD-47C5-46BB-9157-2593F035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212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E8FE-28FB-4CFA-8967-B7DEF694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CC01-5B82-4A8C-8A5F-C4BA5EB7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B5EC-0E31-49F0-B586-1276FBB2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54BE-299C-4665-99F5-0A621170C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CA43-8E77-4D81-A59D-CF0BBDDB7361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914400" y="762120"/>
            <a:ext cx="7458120" cy="90360"/>
          </a:xfrm>
          <a:custGeom>
            <a:avLst/>
            <a:gdLst/>
            <a:ahLst/>
            <a:rect l="l" t="t" r="r" b="b"/>
            <a:pathLst>
              <a:path w="4753" h="1">
                <a:moveTo>
                  <a:pt x="0" y="0"/>
                </a:moveTo>
                <a:lnTo>
                  <a:pt x="4752" y="0"/>
                </a:lnTo>
                <a:lnTo>
                  <a:pt x="4742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ntology based analyses methods ++ 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develop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a grammar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for making productions using mf, bp, cl: 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derive a higher level grammar for next level of productions </a:t>
            </a:r>
            <a:r>
              <a:rPr b="0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derive a formal Annotation language?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Garamond"/>
              </a:rPr>
              <a:t>Add </a:t>
            </a:r>
            <a:r>
              <a:rPr b="1" lang="en-US" sz="2800" spc="-1" strike="noStrike">
                <a:solidFill>
                  <a:srgbClr val="b2b2b2"/>
                </a:solidFill>
                <a:latin typeface="Garamond"/>
              </a:rPr>
              <a:t>structure awareness</a:t>
            </a:r>
            <a:r>
              <a:rPr b="0" lang="en-US" sz="2800" spc="-1" strike="noStrike">
                <a:solidFill>
                  <a:srgbClr val="b2b2b2"/>
                </a:solidFill>
                <a:latin typeface="Garamond"/>
              </a:rPr>
              <a:t>: Create an iconic mapping for cl terms to facilitate novel analyses.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Garamond"/>
              </a:rPr>
              <a:t>Add </a:t>
            </a:r>
            <a:r>
              <a:rPr b="1" lang="en-US" sz="2800" spc="-1" strike="noStrike">
                <a:solidFill>
                  <a:srgbClr val="b2b2b2"/>
                </a:solidFill>
                <a:latin typeface="Garamond"/>
              </a:rPr>
              <a:t>time awareness</a:t>
            </a:r>
            <a:r>
              <a:rPr b="0" lang="en-US" sz="2800" spc="-1" strike="noStrike">
                <a:solidFill>
                  <a:srgbClr val="b2b2b2"/>
                </a:solidFill>
                <a:latin typeface="Garamond"/>
              </a:rPr>
              <a:t>: express the temporal dimension and have time-dependent annotations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Semantically rich annotations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5419800" cy="6019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638680" y="1328760"/>
            <a:ext cx="3505320" cy="2023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81680" y="5867280"/>
            <a:ext cx="121932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67280" y="5940360"/>
            <a:ext cx="685800" cy="612720"/>
          </a:xfrm>
          <a:prstGeom prst="leftArrow">
            <a:avLst>
              <a:gd name="adj1" fmla="val 50000"/>
              <a:gd name="adj2" fmla="val 2798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7086240" y="4038480"/>
            <a:ext cx="609840" cy="106668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1066680"/>
              <a:gd name="textAreaBottom" fmla="*/ 1037160 h 1066680"/>
            </a:gdLst>
            <a:ahLst/>
            <a:rect l="textAreaLeft" t="textAreaTop" r="textAreaRight" b="textAreaBottom"/>
            <a:pathLst>
              <a:path w="21600" h="37771">
                <a:moveTo>
                  <a:pt x="3600" y="0"/>
                </a:moveTo>
                <a:arcTo wR="3600" hR="3600" stAng="16200000" swAng="-5400000"/>
                <a:lnTo>
                  <a:pt x="0" y="34171"/>
                </a:lnTo>
                <a:arcTo wR="3600" hR="3600" stAng="10800000" swAng="-5400000"/>
                <a:lnTo>
                  <a:pt x="18000" y="377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00000">
            <a:off x="7049880" y="3465360"/>
            <a:ext cx="685800" cy="612720"/>
          </a:xfrm>
          <a:prstGeom prst="leftArrow">
            <a:avLst>
              <a:gd name="adj1" fmla="val 50000"/>
              <a:gd name="adj2" fmla="val 2798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Ontology based analyses methods ++ 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Garamond"/>
              </a:rPr>
              <a:t>develop </a:t>
            </a:r>
            <a:r>
              <a:rPr b="1" lang="en-US" sz="2800" spc="-1" strike="noStrike">
                <a:solidFill>
                  <a:srgbClr val="b2b2b2"/>
                </a:solidFill>
                <a:latin typeface="Garamond"/>
              </a:rPr>
              <a:t>a grammar</a:t>
            </a:r>
            <a:r>
              <a:rPr b="0" lang="en-US" sz="2800" spc="-1" strike="noStrike">
                <a:solidFill>
                  <a:srgbClr val="b2b2b2"/>
                </a:solidFill>
                <a:latin typeface="Garamond"/>
              </a:rPr>
              <a:t> for making productions using mf, bp, cl: 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derive a higher level grammar for next level of productions </a:t>
            </a:r>
            <a:r>
              <a:rPr b="0" lang="en-US" sz="2400" spc="-1" strike="noStrike">
                <a:solidFill>
                  <a:srgbClr val="b2b2b2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b2b2b2"/>
                </a:solidFill>
                <a:latin typeface="Garamond"/>
              </a:rPr>
              <a:t> derive a formal Annotation language?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Add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ructure awareness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: Create an iconic mapping for cl terms to facilitate novel analyses.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Garamond"/>
              </a:rPr>
              <a:t>Add </a:t>
            </a:r>
            <a:r>
              <a:rPr b="1" lang="en-US" sz="2800" spc="-1" strike="noStrike">
                <a:solidFill>
                  <a:srgbClr val="b2b2b2"/>
                </a:solidFill>
                <a:latin typeface="Garamond"/>
              </a:rPr>
              <a:t>time awareness</a:t>
            </a:r>
            <a:r>
              <a:rPr b="0" lang="en-US" sz="2800" spc="-1" strike="noStrike">
                <a:solidFill>
                  <a:srgbClr val="b2b2b2"/>
                </a:solidFill>
                <a:latin typeface="Garamond"/>
              </a:rPr>
              <a:t>: express the temporal dimension and have time-dependent annotations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What about 3D structure of the cell?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8280" y="1219320"/>
            <a:ext cx="2797200" cy="339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60880" y="2330280"/>
            <a:ext cx="5730840" cy="4299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 rot="2248800">
            <a:off x="1698120" y="5029200"/>
            <a:ext cx="1143000" cy="533520"/>
          </a:xfrm>
          <a:custGeom>
            <a:avLst/>
            <a:gdLst>
              <a:gd name="textAreaLeft" fmla="*/ 199800 w 1143000"/>
              <a:gd name="textAreaRight" fmla="*/ 828720 w 114300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2190600">
            <a:off x="3200040" y="1401840"/>
            <a:ext cx="1066680" cy="60948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Garamond"/>
              </a:rPr>
              <a:t>Payoff: If we have iconic mappings</a:t>
            </a:r>
            <a:endParaRPr b="1" lang="en-US" sz="3200" spc="-1" strike="noStrike">
              <a:solidFill>
                <a:srgbClr val="ff9900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We can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browse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ontologies in an anatomy centered manner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Can use these new views for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facilitating the annotation process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i.e. improve curator </a:t>
            </a:r>
            <a:r>
              <a:rPr b="0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 annotation tool interaction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Create new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visualizations for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nterpreting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</a:rPr>
              <a:t> high dimensional datasets.</a:t>
            </a:r>
            <a:endParaRPr b="0" lang="en-US" sz="2800" spc="-1" strike="noStrike">
              <a:solidFill>
                <a:srgbClr val="ffcc00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Time course data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  <a:p>
            <a:pPr lvl="1" marL="690840" indent="-265680">
              <a:spcBef>
                <a:spcPts val="601"/>
              </a:spcBef>
              <a:buClr>
                <a:srgbClr val="ffcc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Garamond"/>
              </a:rPr>
              <a:t>Integrating gene expression, protein expression and metabolomic datasets.</a:t>
            </a:r>
            <a:endParaRPr b="0" lang="en-US" sz="2400" spc="-1" strike="noStrike">
              <a:solidFill>
                <a:srgbClr val="ffcc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skr</cp:lastModifiedBy>
  <dcterms:modified xsi:type="dcterms:W3CDTF">2005-11-04T05:15:02Z</dcterms:modified>
  <cp:revision>38</cp:revision>
  <dc:subject/>
  <dc:title>PowerPoint Presentation</dc:title>
</cp:coreProperties>
</file>